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FF89-ECFD-4AAC-925D-98CC1199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012B-7AE1-4494-9895-8BD5653D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6773-FE4A-4D93-85D5-A3A5FF41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020E-2DEE-4D8F-B952-0F576C512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3C92-0782-4531-A49A-0C5C7B65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FC89-9F69-4D45-89C2-8788510B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6F3A-7496-4BF2-81BC-6895D117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91A7-96B9-4068-96C0-22E32259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2F8C-E474-4AEF-98D8-C75C548F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E6C8-98CE-4DD8-B323-C7BACFD0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41E1-68B6-4115-97E7-C77BF123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38BA-CE52-4C89-80C0-BF6E187A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76E2-02C8-4CE1-9C57-C8898B35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F80B-981A-44D7-AFD4-7796EA2B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7B52-B54C-4A8D-BB2B-66AC219D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2568-D770-4F48-9819-F3ADD06B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9EEF-BE88-470E-B11A-26FFA597D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A41B-3884-4153-B63F-3B9C385A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8299-77F4-4C86-8D1C-9AFDD17A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1B35-9A80-412E-8B38-E1EAA13D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F921-1D58-4B93-BFD5-4A2B256A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B9D2-BD61-4B92-B7CF-C02EF839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514A-7E37-4035-8E0F-070A6242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89D0-18E3-43BD-B3A9-780A0642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B391-6184-4A0F-AF93-4820159F80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5041-0C18-4DD4-BF93-5EFBDDBBFD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6699"/>
                </a:solidFill>
                <a:latin typeface="Old English Text MT"/>
              </a:rPr>
              <a:t>Madagascar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00400" cy="2131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765840" y="0"/>
            <a:ext cx="2378160" cy="2971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0" y="2286000"/>
            <a:ext cx="3809880" cy="2550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762600" y="3124080"/>
            <a:ext cx="2381400" cy="2714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2b2b2"/>
                </a:solidFill>
                <a:latin typeface="Old English Text MT"/>
              </a:rPr>
              <a:t>The History of Madagasca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Old English Text MT"/>
              </a:rPr>
              <a:t>-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Old English Text MT"/>
              </a:rPr>
              <a:t>Madagascar split from Africa 160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Old English Text MT"/>
              </a:rPr>
              <a:t>-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Old English Text MT"/>
              </a:rPr>
              <a:t>Madagascar became a French colony in 1896, but regained independence in 19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Old English Text MT"/>
              </a:rPr>
              <a:t>-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Old English Text MT"/>
              </a:rPr>
              <a:t>Used to be called: Malagasy repub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4411800"/>
            <a:ext cx="4343400" cy="2446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b2b2b2"/>
                </a:solidFill>
                <a:latin typeface="Old English Text MT"/>
              </a:rPr>
              <a:t>Imports and Exports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en-US" sz="3200" spc="-1" strike="noStrike">
                <a:solidFill>
                  <a:srgbClr val="ffffff"/>
                </a:solidFill>
                <a:latin typeface="Old English Text MT"/>
              </a:rPr>
              <a:t>Madagascar exports things like animals, oils and fats, and electrical equipme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Old English Text MT"/>
              </a:rPr>
              <a:t>-  they usually import spices, pearls and gems, perfumes, and crude vegetable material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3809880"/>
            <a:ext cx="4114800" cy="2390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2b2b2"/>
                </a:solidFill>
                <a:latin typeface="Old English Text MT"/>
              </a:rPr>
              <a:t>Political environme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Old English Text MT"/>
              </a:rPr>
              <a:t>Repub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Old English Text MT"/>
              </a:rPr>
              <a:t>Independence day: June 2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Old English Text MT"/>
              </a:rPr>
              <a:t>Language: Malaga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Old English Text MT"/>
              </a:rPr>
              <a:t>Capital: Antananariv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2b2b2"/>
                </a:solidFill>
                <a:latin typeface="Old English Text MT"/>
              </a:rPr>
              <a:t>This is Madagascar’s map </a:t>
            </a:r>
            <a:br>
              <a:rPr sz="4400"/>
            </a:br>
            <a:r>
              <a:rPr b="1" i="1" lang="en-US" sz="4400" spc="-1" strike="noStrike">
                <a:solidFill>
                  <a:srgbClr val="b2b2b2"/>
                </a:solidFill>
                <a:latin typeface="Old English Text MT"/>
              </a:rPr>
              <a:t>Madagascar is an islan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3089520" cy="3471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477120" y="2666880"/>
            <a:ext cx="2514600" cy="2446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34883E-007 C -0.00504 -0.00301 -0.01042 -0.00601 -0.01528 -0.00925 C -0.0184 -0.01133 -0.02031 -0.01596 -0.02361 -0.01712 C -0.02743 -0.0185 -0.03142 -0.01827 -0.03542 -0.01874 C -0.04115 -0.02406 -0.0474 -0.0266 -0.05417 -0.02822 C -0.06649 -0.03886 -0.07656 -0.03354 -0.09427 -0.03447 C -0.10903 -0.03285 -0.12413 -0.03308 -0.13889 -0.03123 C -0.14444 -0.03053 -0.15191 -0.02591 -0.15764 -0.02498 C -0.16302 -0.02059 -0.16858 -0.02059 -0.17413 -0.01712 C -0.18247 -0.0118 -0.1901 -0.00393 -0.19896 4.34883E-007 C -0.20868 0.00879 -0.21059 0.01064 -0.2224 0.01249 C -0.22691 0.01874 -0.23368 0.02406 -0.2401 0.0266 C -0.24149 0.02799 -0.24601 0.03123 -0.24601 0.03447 C -0.24601 0.03979 -0.24115 0.0428 -0.23889 0.04557 C -0.23455 0.05066 -0.23194 0.05691 -0.22708 0.0613 C -0.23021 0.07773 -0.22674 0.09716 -0.2342 0.11127 C -0.23733 0.127 -0.23281 0.14226 -0.24358 0.15221 C -0.24618 0.16216 -0.24271 0.15244 -0.24826 0.15846 C -0.24931 0.15961 -0.24965 0.16193 -0.25069 0.16308 C -0.25712 0.17072 -0.25677 0.17002 -0.2625 0.17257 C -0.26754 0.17927 -0.27118 0.18043 -0.27778 0.18344 C -0.28403 0.18298 -0.29028 0.18251 -0.29653 0.18182 C -0.30278 0.18113 -0.31528 0.17881 -0.31528 0.17881 C -0.32135 0.17349 -0.31875 0.17581 -0.32708 0.16771 C -0.32865 0.16609 -0.33021 0.16447 -0.33177 0.16308 C -0.33299 0.16193 -0.33542 0.15984 -0.33542 0.15984 C -0.34219 0.14782 -0.34844 0.1344 -0.3566 0.12399 C -0.36684 0.09461 -0.36337 0.06893 -0.34358 0.05968 C -0.31771 0.06176 -0.3099 0.05876 -0.29531 0.08628 C -0.29132 0.10386 -0.2901 0.12422 -0.3 0.1381 C -0.30226 0.14689 -0.29931 0.13949 -0.30486 0.14435 C -0.32257 0.15984 -0.32604 0.15522 -0.35295 0.15846 C -0.35538 0.15869 -0.35764 0.15938 -0.36007 0.15984 C -0.35747 0.161 -0.35399 0.16239 -0.35191 0.1647 C -0.34705 0.17002 -0.35191 0.1691 -0.34705 0.17557 C -0.34514 0.17812 -0.34219 0.17835 -0.3401 0.18043 C -0.33819 0.18783 -0.33524 0.18691 -0.33073 0.1913 C -0.32934 0.19269 -0.32847 0.19454 -0.32708 0.19593 C -0.32483 0.19824 -0.3224 0.20009 -0.32014 0.20218 C -0.31563 0.20634 -0.3066 0.20796 -0.30122 0.21004 C -0.29444 0.20865 -0.28906 0.20865 -0.28247 0.21166 C -0.25035 0.2112 -0.21806 0.21143 -0.18594 0.21004 C -0.18229 0.20981 -0.17535 0.20703 -0.17535 0.20703 C -0.16962 0.2031 -0.16372 0.20194 -0.15764 0.19917 C -0.15035 0.19269 -0.14566 0.18922 -0.13767 0.18506 C -0.13611 0.18413 -0.13455 0.18298 -0.13299 0.18182 C -0.13177 0.18089 -0.13073 0.17951 -0.12951 0.17881 C -0.12517 0.17627 -0.1217 0.17604 -0.11771 0.17257 C -0.11441 0.16609 -0.11146 0.16725 -0.10712 0.16146 C -0.09965 0.15129 -0.11059 0.16193 -0.10122 0.1536 C -0.09844 0.14805 -0.09601 0.14782 -0.09184 0.14435 C -0.08854 0.13787 -0.08507 0.13278 -0.08004 0.12862 C -0.07656 0.12214 -0.07205 0.11589 -0.06719 0.11127 C -0.06163 0.10086 -0.05295 0.09345 -0.04705 0.08305 C -0.04583 0.07796 -0.04462 0.07287 -0.04358 0.06755 C -0.04254 0.05159 -0.04635 0.03539 -0.03646 0.0266 C -0.0316 0.01712 -0.02743 0.00717 -0.01892 0.00324 C -0.01354 -0.00393 -0.01476 -0.00463 -0.00365 4.34883E-007 C -0.00208 0.0007 -0.00139 0.0037 5.55556E-007 0.00486 C 0.00104 0.00578 0.00347 0.00787 0.00347 0.00625 C 0.00347 0.0037 0.00121 0.00208 5.55556E-007 4.34883E-007 Z">
                                      <p:cBhvr>
                                        <p:cTn id="18" dur="3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8:04:47Z</dcterms:created>
  <dc:creator>alejandrogandaria</dc:creator>
  <dc:description/>
  <dc:language>en-US</dc:language>
  <cp:lastModifiedBy>alejandrogandaria</cp:lastModifiedBy>
  <dcterms:modified xsi:type="dcterms:W3CDTF">2008-11-07T19:26:48Z</dcterms:modified>
  <cp:revision>7</cp:revision>
  <dc:subject/>
  <dc:title>Madagascar</dc:title>
</cp:coreProperties>
</file>